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DF98E-5F28-4EDB-BF86-FE36218F10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EF1D-C70A-4FD0-92B3-65055800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B1D69-6710-4996-93E8-6A084A02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0E48C-0417-4747-89F8-23B640AD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0D67BE-AF5C-4F0E-8342-26F39DE7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29012-1969-4A51-ABE1-1E8F0BF3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9CF7A-1FD2-4C47-B6FA-6FF6FF48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3FC36-1E04-43A3-B9EF-EDCCF78E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4AEA8-0176-499D-96E5-0EAFEC3A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82BB1-A10C-4B6D-8C56-12FD6463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87B694-453B-40BA-9F38-BE6262C74C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4BBFF2-C889-4DD5-83EA-2276D87F9E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BDD2B-493D-47F8-8392-58D86195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97BD19-3CE2-4A5F-8FE7-2D0CC273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F2BB48-DB4F-44DE-B583-72EC1A15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910A25-D369-412C-8D6F-CA1C58DE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EB60A7-A7FD-49D3-A61F-7AB1AFF0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B566D4-4585-40A1-A8C7-F662B8DC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FEF48A-8894-4224-A85E-E3E4A611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C25782-B21B-4F52-854A-B5F6967E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B147CF-30D5-43DA-A8CF-11B8D0FC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260176-064F-4960-8913-8A584ED3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C3664E-FCA8-40F9-BAB9-05BA501E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3D4D-60C2-4732-8204-3A2B9B6773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7B4FCE-1F48-43FD-B95D-1F1D14ED52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BD901-D8CC-42AB-8679-481EE6FD75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AB48D-D9EE-48A5-8A91-1A503973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7A847-D8A0-47E4-93AF-85A8D1BF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5863A-D186-4F23-B6A9-BDD90EAD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7CF18-7131-4FDD-A994-8B9B2C42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E81FE-CFAF-4761-9F72-CFA043B3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1FDF9-C17A-4E0E-8033-E74671A6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9F493-58F0-4320-85F6-02CA841C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4B2DE-27DE-4EAD-8F10-6FD9551E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F8075-2F4C-4D61-BA42-53DB2EA8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4A177-9DA6-4FC6-B2A0-D4CB2571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08E38-9224-4793-A35D-9947778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B0BD8-018E-46F7-94DA-3DFBD91BA8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D4D2A7-AAE7-4362-9CB5-AC71757D3C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8FFF54-E851-448E-884A-AC8992F3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BF6080-CDE9-46B0-A945-C82C95C6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DDC131-ADB3-404D-97D1-4CC52382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8A6099-1FD6-42CB-B6BC-CF897BF5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9DEDDC-7005-496B-B335-EFC26D2A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5CDFE5-CEC2-4201-809E-40E58C00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2300A-D495-40DB-BB02-1BA53863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5DFE7D-C595-429B-9E5C-84493AAB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4E40C9-27B7-4767-878D-CF978C19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82C5ED-B6FE-4775-8882-2765CADA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FE8CFC-DCDF-4DC3-9717-EA55F4CF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03AD4F-B477-466A-9E5C-0830695572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0C2D2-7F0D-4766-86EA-8007E0A1CE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95962-D719-4D33-B49F-FDC8246A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23B86-2517-4138-8744-47267651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A0A34B-AA71-4A92-81DB-821923A9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AEA3F-CC36-4144-9DA5-F7FB61E1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00952-1B93-4564-8835-1D9B50B6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ED7C9-921D-495D-9A5C-01C61219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5F332-8CC7-47FC-B3DC-8EE2E02E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81D53-7B68-4CA0-ACC7-44647DD0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FA4EF-6F97-458A-ABEA-4C2FE3B2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E815E9-8785-4459-8CD9-7037F00F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4CDEB-31F5-4CA7-A4AF-BF62A9C4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6309A-1EF0-43B1-A26F-B9143A6D86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87325-7E6E-439F-AE25-99D6AF7305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C9BEA-CFDC-43DE-AE0B-B77803DE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23CDA-938C-43FF-9166-7988D65F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0F91A-3117-42E1-BE81-29C93A95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D4F25-5CB8-4053-A058-E71A988E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151EA-4D7B-4234-AE86-961C005D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BC21B-92BB-471C-8FF6-D34744C3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C50D7-855B-4DC3-A65B-0B87BEAE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24B8B-7BB1-4141-BFC2-AD475EAA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E619A-5BD9-4C6C-9E6A-67DA5AF9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317F9-754F-4EAF-8611-7DD6BEAA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3122E-35FD-4CF2-AD1F-942AFCF7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1165E-DBB0-45E3-ABA3-13C3385024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43CAC-2F43-4FB6-9319-D23B2DBB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B02F5-0F81-4A6E-A10C-44427A3E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FE601-CF13-446D-AF56-900C156A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7202E-2BF6-4DA0-8D35-7D57584C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14701-C114-4685-BB8B-6EA5F57E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07739-AA7F-46DB-B0DF-E40779E3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FA20A-0A94-4892-9411-8FE3D920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E1CBD-02DA-4BE3-85AE-71E53CC9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54027-C3EB-405E-9D41-39744AA0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FF24C-86B5-4224-931A-AA9430FC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E7874-C0FB-4E07-8272-9CCA429A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D222D-64D9-469C-86E9-DF69FD4D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D3483-70C3-4823-AA5F-D6CB612D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DFF4C-334C-4221-8E2C-3EDFCB54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7AB51-A291-4AFA-9855-4E645B8C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A2738-BAB1-467B-B5D5-F22C9333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FD044-536F-406F-80AC-E0737485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FE702-C7F1-4336-86AB-F199DBD3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5A1B4-FD03-468C-9E00-B44639CD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4B9A5-6056-4E30-B30A-490D04C2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15621-F19E-48C1-8709-B861AF3E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28B26-15C0-485E-B3C8-1AF697FC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933EA-1BFF-4EC2-8FBA-38384EA1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7EDA1-079F-4BA2-A6E3-AFD47E12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55CDC-4011-48F5-8B0E-137C1470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9EE2A-D94D-42C2-A608-7BBC9980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178CF-5582-4A3F-A7FD-BE542A59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5F05F-DB31-4185-884A-5A8F3076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8F378-AE24-4A92-B73D-8FE0AE5B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A91CD-E777-4ECD-B63A-A68D9AC3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D0F09-2FC7-4F0C-8958-103B5D9D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484E0-E0BB-494C-A803-C1E0C081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E15EA-7C1E-4793-A074-F9FD6B2C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0E586-E027-4492-A032-B543CC41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43EFB-727C-4A12-888F-474B9722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5BF63-A510-470A-AB25-13086F04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A45DB-6D61-4B75-A093-21D4E718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8BBA5-8A5E-4C20-A92F-D71D78E9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2A4CC-F176-4479-AE36-B3333FE1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9BE86-19DA-400B-9210-5B494829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33E11-7C12-4237-84F2-BDEB6E70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75ED7-382B-4024-86ED-4DB3033D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3BD6B-2037-4011-A2BF-88B0C4DD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C6A644-D4EC-465A-80CB-6DB41377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BB8A2-48F3-455C-97A7-EB5C863C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15E76-E266-4667-9D1B-4ACCA9F5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21975-F9B2-439C-BE29-26C4F04E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FB59F-4CC1-41DE-80FB-98A7195D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36952-6BE7-4B74-884D-A4A318B3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0329AF-CB26-493D-B3B8-475423F8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3C89A-A449-4D17-B12B-E2EB900E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56B61-3B0F-486A-9F16-78205523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502FC7-67D4-4897-BEA9-59D2E221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415A4-2915-495A-8D2D-D37DB7E7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BA38C-5506-4E2B-8814-C3F3C295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7E7CA-8BDB-458A-B75D-2AFF0F56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FEB570-FBBD-43AF-A01B-15137C2A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1F41B-BFF8-40AA-8F7E-A2392F4A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5A604A-2CFC-4E05-9301-5A9E69CF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03ED9-02D2-4742-BEF3-A0BD910A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AF607D-E70D-4BE5-9907-62006D4B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0825FB-B1F1-4458-B523-C30E573D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70836D-2DE6-4D26-A795-88DDBC02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F291C-ACF7-49A8-9FD5-E41D6244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ECACB-B7C1-48BD-BD06-0A4DF4A0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82E11B-CF22-440D-BB64-912646D3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8788A8-D552-4F5F-9CAA-AE8ED3EB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25FAD0-7C18-41E0-85C4-D09A8F21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24C61-3473-4C8D-AF38-816E84D6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8FD6D4-CD11-4C4E-8789-EE2E30D6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89A59-60C6-4F65-9A93-ACB15629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3E671F-CAF6-4F19-B1CB-E089B4E2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EDD8AB-1957-4EEE-AAC1-D17E71F8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A857BF-295A-44F7-864A-07F552FD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A773C-6DA7-495C-B108-13A1DA9B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66FFBB-0FD7-4935-B675-7EC9863D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748320-9392-4F17-BC09-1550B143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434AA6-117F-4501-AE1D-6A1E7F90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0ADFDA-4D5F-46DE-8496-F2F06283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5FA38-A2D1-4902-B249-E3F9B2B0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1AF208-9FE6-433A-A412-A96672AC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7BE05C-B005-44D0-9C9F-A466D1BD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13885D-0F4F-49C9-88B5-2581065A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5A95CD-4F88-4783-9C6F-94CF5CE1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5A990-7B68-4327-8755-1F86E1EC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BA237A-3A6A-4137-930F-0BF3E5E1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B81BF7-CB91-498B-8F12-F02E98C0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E110F-F942-44A9-A07C-7EA3E538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7FC03A-5B9B-4470-90D8-C651725F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976643-902E-462F-956E-082BF227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3FAFF-6663-4A86-B501-B7342A64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B65DC5-5C12-4C1F-B6D7-6111F906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4EEB1-DD78-4553-8F7E-A98C0064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6B6D93-2727-40DF-9498-A84B8868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6EF9C6-98E7-450B-BA8D-5051F916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52F0D5-4F02-47DA-9C5C-A79CA190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7A5FFA-6AF3-4AC6-B2DB-7374119B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78AF9D-7155-4E5D-9D34-0BC3B297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58BCA9-C5A4-43F1-987D-AED03E20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4C929B-360A-4C65-A424-F1714489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F7F3F3-046E-4248-8AF6-FD80E291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BC016-BA9C-4285-8E11-75BBB264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C7848F-E2BF-4818-A15C-20698C7B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EECF8A-64CE-4677-BB2F-53B6B967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B08E1D-BEF4-4FEA-974A-227936A6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FFE541-758D-4F80-8579-A5FC1511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E62BA2-39F5-470B-AADE-466B3F78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604983-7B8B-4F7F-BEC5-7B014788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C3FF4A-1D78-4AD8-8F28-BAEC69A5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2F241B-27D8-4C42-B9AA-F3EDBF96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874057-8E5B-4D66-AA12-573352DC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6881FE-D687-4345-B824-24DB1159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5D660-F10F-46A6-895A-8436E3BA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2ADEF9-6436-4A26-B96D-C6D35D91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C2F81C-B7DE-402C-9CC3-1BD1320E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97DFB0-F1B6-4EBB-894F-4C183143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1BF952-C937-4112-831E-E6EA2FCE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D103E4-C6CF-40D1-9800-4CF1CDCE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2BCDA3-D622-4BCB-91A4-032930CA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B915FF-4573-43EC-B879-2BAB94D4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0CF8CA-DDED-4F34-8C49-0D9F0D4E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9CD019-B307-4491-92A7-645F2D51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F35D2-D960-4059-897D-1C94D603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80D39-9EA9-4B62-A298-0E2390F0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D9D33B-D099-4D18-BE30-B3A249E4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9BD61E-3AC1-4B38-B70A-40C3203A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CE112D-50F5-4E35-ADFE-DB8AC0C4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F1FF85-7C78-448C-BA6F-7D07E4E8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B531F3-D4CD-4B08-BB10-9DC9D7D6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F66346-2921-4FB0-9D30-D70E62FA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6FA628-6F81-467C-93EF-AA77A77F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6E13D3-C526-4C29-963E-11D565A5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D4C5C0-1877-41F1-A948-EEE010F4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601664-B51B-4AAE-A5F7-D25F546A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BCADF-0714-4288-BAE9-4F3F2FEC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33E874-1B22-4925-BAC5-1932E472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4E2EC4-C56C-44BC-AD18-00E863B7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F0B0B9-96AF-4FEB-9594-E0A49569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5A649E-1444-4FA6-902C-29D52309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67C83C-9F4B-477C-8C5C-1CD85B91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275579-DD60-4358-B6C5-13B5F754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EBC149-8ECD-4D10-9B29-1A8AA4FA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ACF2AD-9EAC-43B4-A8D1-72A545CC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6E06AE-2403-4272-A2AC-8F7449D8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186BB4-31C3-4288-AD09-536739B7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6BC16-4C05-4FBE-A1A1-5DFC1030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C8211-1B02-4059-8585-2C2AA397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F53C10-D76E-4951-AB03-FF96284F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D89C57-36CB-4D3B-9448-067F6BC0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4ED021-72C6-4754-98ED-AFCDD50D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0FADEE-B93A-4C1C-AC84-C3E9BCCD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F9EB3D-6262-4F87-A17F-981A9B94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63053A-325E-4B1B-A59D-5746AD0B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621A0D-EB81-4527-AFCA-17323C16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022149-04F1-4D61-A239-C9205664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F020EB-1145-4E1C-9E8C-0CE8B43C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4F971B-F57A-4334-818F-AA08CBA5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13634-0650-48A9-BA03-8466A89C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B40EA7-D4CF-43DD-8D83-B9596D25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307D3C-E77D-4825-840D-B63F2B78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39C2AF-8ABC-4251-810D-D1E7F3F4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3CA658-B9BF-47F1-A690-97E4BBE0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2DBF4B-ADAA-4082-8433-ED9600CB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BAD7B6-07E4-4163-954D-E4B1FEEB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93CE6F-30E4-407C-8F6D-6DF8E6E0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82601C-EEAA-47D2-88AD-5C3A47E3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94DBDB-BB6E-4BA9-A3EA-C58EFB13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9C9227-5664-48F1-BC95-9AB83C90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B82E2-C49F-4558-94C5-CFC81C94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AFE5E5-9A5E-4203-8D1E-C73C163B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C56C84-E5A3-4E57-8F68-8CF2A746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4D514C-A4F5-48A9-9594-63E34A26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D81AFA-76E3-45E7-BB5E-7DEF023F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B55A2F-363F-45EA-95ED-9FA0C0EF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E156CA-D8D8-4DF5-9C79-389F30DF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B0C37A-6B76-407E-979B-9A973863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EB7CE7-450D-4A9C-867F-2F58F588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D0044E-6FC9-42C4-BD1F-3ADCDCD0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BD2B98-E678-476C-9582-2DCA4BC9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5FBE2-3522-490E-82B8-D88DFA94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D0BFA2-06EA-4116-BE87-E6C97E37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B544C4-67C3-43CA-9CC5-0B2C4DFA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3DF902-2789-48E5-A5AB-946851B8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484784-4868-4F44-9EC3-96F3633F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14BD8A-77D8-4C24-A37E-82367BA5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12E9E6-7679-4FF4-A4AA-790A1F1A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04644C-DD9F-422C-82CB-618E1716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E2DB34-F34C-472D-90BA-EA4FA1A8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452541-AEEB-4976-9339-8B0525C3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1E7C99-6D53-4615-86C4-FFBB6A59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563B4-0017-49A8-8AED-1071B6FE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D23B82-311A-4987-A959-8FF98B03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954125-DDE2-41ED-8EA0-0104A67C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75778E-3DA5-4405-ACF7-454EE9C7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C380D0-C430-4EF5-AB0F-6E6C7D30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E097FD-0ECB-4560-BD51-C718EDC2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BFB759-0D98-4371-AA66-AC3556D6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1CF97C-63C6-4F32-8510-170174CE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9FE8F3-218E-4638-A398-D740952B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6066B8-24EC-42A4-9AB1-1AF3E83E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05870C-EB4F-46BA-B950-0426BD06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B2A62-186C-4BF0-86A3-713AD72D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DAD241-1AA1-4553-8E64-28704A95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7E94AF-D9BC-484E-AFA0-E90E4123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357106-3F4F-4B84-A8C5-CF568104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1BEA85-0D4D-4CC9-AD22-0BE000A7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206C61-CD28-47C6-9FDC-7AE00664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A1514B-2585-48E9-8D4B-88C25D48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084A4F-5562-4167-B50E-C3C40419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F2B013-D88F-47D4-AAF1-5235A2B3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C59E91-D4AB-4BEB-A07B-4D4D002C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B77CA4-9AB1-474A-BB38-1F4C7DC3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8234B-29FD-4061-B0F3-C84A697E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FEF952-D96B-4142-BF47-90B7AC41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572F31-7E8A-4487-84B0-C67B3990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9680E6-74B8-4EB7-8EBC-8FB7B9BD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7CFD74-079A-46C3-B3AC-DA19F107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7E7473-6C29-45F8-B55C-DB8F839C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4D774E-BDDE-43D7-B422-5BC9CCD7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A54937-EADE-45ED-8684-88B8356A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899D39-1B36-4372-A9EA-FF7D09EF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F82590-BD96-4BB8-93EB-D566F041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52231C-4854-4FDE-AEF6-B79AF5B8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677280-1FCD-49F6-BD93-09FDEC1625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0D1230-654B-450A-8ED0-B1B32F9F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24FEE3-C5FF-4CA9-9816-66628A38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E7394E-5286-42B5-AE3C-6377F283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CB309C-76F2-462E-84C7-765B08CF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EF3656-4400-4932-A6ED-1B09D34F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EADE0B-6386-438B-ADAB-B81B59AF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EF0C5C-0B27-4B1D-B95E-797DC4A3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488AEE-E4D7-4B55-BFF9-E514B175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CA6E58-0D47-4122-B61B-93CB2C2B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99E69E-A6EB-47D0-8D06-C852BF0F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C8F8F2-7597-4BC5-A35D-C48D8F17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006925-0889-41C3-8E42-59E991CF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71C1B5-EB34-491D-9F22-F8D4F1A7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21B547-6B6C-4C9A-8FF1-B51AC2A4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361DC0-CC58-498D-A14A-658AEA71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69CB6A-14D8-4741-B3B0-E9366AF6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43BC4C-63FA-445D-8DB7-FEB9C115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898021-CF98-4045-ACDB-8308B4D7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B57E86-954C-4F43-B34D-B1C40433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080DFE-AC6B-47D1-8927-465D89A4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D8A3A7-DF8B-4F3B-A9AB-89AF2025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1A2040-8835-44B3-AF1A-E56346CF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250E69-414B-4F89-AE2B-EE2BFBD1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4D7DD6-AD8E-4896-BA43-8D4EB7E6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E3622A-6080-4D92-9967-7C32A614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1B7278-FCC3-4DE0-8845-049B0E51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2F10FE-326F-4BEB-847B-A783836B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63A658-A056-4510-9CE1-93F2B588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7B4234-2AF6-4C20-8606-9D0EDFA4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5A7337-CBE2-461D-8DF8-B4F39F7D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54BDE8-CFCA-47DB-8E62-798CF320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D101C1-C557-4BAE-928B-A0510C0A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34D4-061E-43A2-9CB4-E56C8945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FAA1F-879B-459A-863F-0B81E211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50DF82-DD76-4B76-92CB-69E345BD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597631-07AF-4A20-83A6-B40C7761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E84880-A627-4CBD-B787-61209648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271960-8A7D-4927-BC7C-99009D91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224E7A-1DD8-4BEA-8D6B-2981A36B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2C3AE3-2B8A-4DB5-95D8-C71033F5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9C1B98-E3A9-4CD6-9486-6463D8B9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098595-16D2-4CEA-8137-C4EAB8DA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6F8DC3-15AB-4B4A-A2DE-41AB0F98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B15BC0-B4DF-4BFB-872D-C0C6A559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81216-4EE3-4384-8793-61E8F41C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8563D6-E127-4FC6-9A27-5A5E10C8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318702-F463-4DBA-BCB0-97E94E51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7B64E5-C1F9-42E3-8F8A-C1A9CCCC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2AB559-A299-4086-A4AC-269A8E4F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68E0A7-D8D1-48D0-BF62-1C9B27F9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C13186-CA6E-45E6-BFC6-5CEC05DD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50E673-1AA4-4DA8-88A4-8C82B250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DF4D86-0B20-4F7A-ABE3-45A2F0DC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9DFF00-F9B9-4EBB-800D-094CA5C7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0FDBB9-0673-459B-83B5-911C29AA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038AF4-6E26-4D54-9103-6F3D8A25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159F87-E1A6-4578-A9A1-F42EA3B6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895A54-6934-4E1C-B60D-2F401BCD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F914DB-A0F7-4E18-9127-60548494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E8CF0C-4EFC-401E-A4FD-F2641D83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B63516-FC5A-464A-BF7A-7263E5FA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3FB370-B1CB-4E5B-8553-57F5640F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652828-2EC3-4425-85AC-EE8591B1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3FD4E4-9E85-4A26-AA4A-34C7B25F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4CE4AE-BE34-45B8-9314-A1CA1C83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23109D-FFDB-44CA-9606-8AC000D3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994FB9-5844-4EF0-988B-B89EBD0A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3AA691-E8B0-44F3-B5EF-7D367074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179B16-F93D-4602-B8EF-A0A9796D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59835B-B4D7-4E7E-977D-23038D9A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213F78-4861-4B6F-9E6B-0F116172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B860E3-7DF4-4B49-84BA-8FC407F9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EFF08B-F48E-45AE-96B8-DE2272F7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53877-A0D8-407A-BAEB-58693AFA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4D850B-7354-49C6-A4B7-24122AF40B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24256-B162-41BC-86B4-CA84481D8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DCD5-DDE2-4FD2-BC14-1563FD73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D13B4-417E-4786-9C44-B21D5EE7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AD77D-85A2-4504-9968-E09148C6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271FB-5AFC-4146-968E-3B3134CD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E8DCA-0854-40B5-8C22-A5B2EB36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83E65-3C2F-4BA5-BB4F-7CDC4E20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9AB87-9E41-488E-961E-733401E3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41640-AED7-4AD8-AEB8-121009AA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3FBDB-FDCD-49A5-A32F-F86E606C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64C49-1D92-457A-887B-D4DE50D6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DACD2-91F6-48DE-9E05-BAF48239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29FFA-34DC-4437-BCDB-1B413CF6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B9975-8F70-4FC5-9E42-FB99617B37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A1A6A0-C11B-4267-B724-2B5927B919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31A49-A2C2-4BCC-B964-184D91BF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0776E-C0EA-4B2E-98C8-36B69207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C53DF6-D0B5-4A2D-959E-A13A14CD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CDD6E-C0AF-4A15-9B10-492CE21C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467CA-A811-46E5-8808-B418BD6C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03EEA-10D6-42FD-A39C-5672D254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1BBDC-1C51-438B-8D63-DE6826EE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6BDA4-B6D1-4CE5-B3C5-787DD0E6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016C-DCBF-4FD6-BA95-10272B0A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339D9-ED29-4CAC-9C32-82E80927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8861F-9A1D-4B4C-A613-6718F62F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68105D-BAB7-4D80-A4AD-46B4F2C57D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A969CC-4D31-4905-A18D-9E92AA7A9D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C514BF-3447-4774-AE3D-84414C70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973CCD-EDD2-43BC-9ADD-FE63EAA8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A9FF28-B0BE-4EE3-90C2-3B8F3A12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7EF1A0-9229-4AE4-9733-04429E0F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F9934A-7B45-4166-8DFB-DFD3992F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C9DAD6-E4A0-483A-B93D-6AF9AB67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314E-59FD-4D59-8273-85DA7E79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7B5E93-8682-4083-AAF4-DFBDAAE1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56D6B1-0E67-4EE2-8425-98A76BA8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856799-66D2-4DE9-82D8-AD7B8296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675560-BEF1-4C42-86B6-50EFD67D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6A294F-F1E1-4DD9-A9C7-B1B3675F40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73AA6-0025-4316-AC76-6733A9B8E5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F4E80-F8D5-4576-AFF5-5989CAED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76C8E-8C30-4EF4-9CF7-61FDA5A8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5ADB8-BB22-46A3-9776-7DF91D5E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9AA2C-2AB8-4368-8265-1E234FBB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8EE7B-3060-4F04-808F-3D521DDD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00B72-6979-4A7B-937A-342E6EE2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20722-7310-42DD-97A6-3A56F433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0E86C-3455-4C78-A223-A5180FF0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7C5DD-5727-432C-A8D4-AA5243DB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9CE8A-C290-49A8-B7C8-56D7EC24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60C12-E0B9-43E2-B554-0EC1D2E5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87F6B-5712-4D1A-8C15-100DC8B9C3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1CA2E-C77D-43C9-9ADF-28F0CD0351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BD1717-61F5-43BF-BF16-56F97E17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565537-9B6D-4FB5-9275-8D1B0440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CC9A-31F4-4865-9A3B-97FB4F0A331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714E-94EB-4DC2-9FB0-0FB5F4C8048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9F01-F6E1-4D2A-99E8-B01442DAC8D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D236-F62B-4D30-A5F0-2D8DAAAF2E4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8B25-F0FD-49BD-871B-A4E984A1D3A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2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0F65-A9DF-4B00-96DF-78D655AD3AE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3D54-5D03-4F0B-9445-220B99C7AF7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5FA7-5D43-4BE5-BB4C-27BF697AF4E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3193-FAFC-4B11-976E-675725E2474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0BD7-4CA8-4081-BE2B-BF6D2362A11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FD33-D426-4C78-9364-43601C1BCF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6A0D-878D-4070-BF14-C8B96FA9EA4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81D6-FA5E-43F1-B570-02470F70672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08F3-F036-44FC-9396-0DB1B65A63D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EC7F-B6A0-4402-BA75-2BF8A6D826C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A938-EECA-44B5-881F-49CBEA7C8AD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CE66-C6BD-44FE-BF4E-ABB1743431E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82E4-9C06-4FA5-94ED-7C7560C0EFB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9BA8-C6CA-4D56-B9DF-14702FD4EE4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76AF-8BC5-4ABC-AC56-26255B6B2A6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B882-95C1-40F8-9B20-842958D2716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0E9A-1C21-4D37-9445-B01FD18324A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6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7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503C-E67D-48EA-998D-AE7DEA1F011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1701-913F-4692-A578-0F827093450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3AD6-A5AB-425A-A567-9A145D14077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DBA8-7E6F-4B1F-BDA1-E35F5B99B1B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8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99ED-18A0-4A94-8D7D-9618A201F12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8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12AB-C2D7-460F-B44F-DD5A0987FA3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 type="ftr" idx="9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A10B-490B-4C86-99FA-3210918BF64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 type="ftr" idx="9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189C-1A9C-4E71-9206-D36ACD0B301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4BC5-9F87-49C5-9D4B-8132C772BF2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45C0-36C5-4516-88D9-1BE09F8AA5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5EF8-DA99-4A77-9491-4FB21A7A8D5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C07F-444D-459B-924B-D142F3EB583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5CEC-B64D-423E-A2D7-30C8708D323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9858-C2C7-49C8-800B-5A383B02486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Oval 5"/>
          <p:cNvSpPr/>
          <p:nvPr/>
        </p:nvSpPr>
        <p:spPr>
          <a:xfrm>
            <a:off x="2968560" y="291132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6"/>
          <p:cNvSpPr/>
          <p:nvPr/>
        </p:nvSpPr>
        <p:spPr>
          <a:xfrm>
            <a:off x="333360" y="286236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观 察物 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1489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9"/>
          <p:cNvSpPr/>
          <p:nvPr/>
        </p:nvSpPr>
        <p:spPr>
          <a:xfrm>
            <a:off x="-1886040" y="1730520"/>
            <a:ext cx="910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 复 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矩形 1"/>
          <p:cNvSpPr/>
          <p:nvPr/>
        </p:nvSpPr>
        <p:spPr>
          <a:xfrm>
            <a:off x="0" y="1357200"/>
            <a:ext cx="914400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右面的图形里有几个角？哪几个角是直角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在图形里加画一条线段，使它增加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直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任意多边形 2"/>
          <p:cNvSpPr/>
          <p:nvPr/>
        </p:nvSpPr>
        <p:spPr>
          <a:xfrm>
            <a:off x="7072200" y="2214720"/>
            <a:ext cx="1643040" cy="1143000"/>
          </a:xfrm>
          <a:custGeom>
            <a:avLst/>
            <a:gdLst/>
            <a:ahLst/>
            <a:rect l="l" t="t" r="r" b="b"/>
            <a:pathLst>
              <a:path w="1643074" h="1143008">
                <a:moveTo>
                  <a:pt x="0" y="0"/>
                </a:moveTo>
                <a:lnTo>
                  <a:pt x="1143008" y="0"/>
                </a:lnTo>
                <a:lnTo>
                  <a:pt x="1643074" y="1143008"/>
                </a:lnTo>
                <a:lnTo>
                  <a:pt x="0" y="1143008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椭圆 3"/>
          <p:cNvSpPr/>
          <p:nvPr/>
        </p:nvSpPr>
        <p:spPr>
          <a:xfrm>
            <a:off x="6929280" y="2071800"/>
            <a:ext cx="285840" cy="214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椭圆 4"/>
          <p:cNvSpPr/>
          <p:nvPr/>
        </p:nvSpPr>
        <p:spPr>
          <a:xfrm>
            <a:off x="6929280" y="3214800"/>
            <a:ext cx="285840" cy="214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椭圆 5"/>
          <p:cNvSpPr/>
          <p:nvPr/>
        </p:nvSpPr>
        <p:spPr>
          <a:xfrm>
            <a:off x="8072280" y="2071800"/>
            <a:ext cx="285840" cy="214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椭圆 6"/>
          <p:cNvSpPr/>
          <p:nvPr/>
        </p:nvSpPr>
        <p:spPr>
          <a:xfrm>
            <a:off x="8572680" y="3286080"/>
            <a:ext cx="285480" cy="214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7"/>
          <p:cNvSpPr/>
          <p:nvPr/>
        </p:nvSpPr>
        <p:spPr>
          <a:xfrm>
            <a:off x="2857680" y="2236680"/>
            <a:ext cx="192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有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个角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4" name="组合 13"/>
          <p:cNvGrpSpPr/>
          <p:nvPr/>
        </p:nvGrpSpPr>
        <p:grpSpPr>
          <a:xfrm>
            <a:off x="5715000" y="2143080"/>
            <a:ext cx="1213920" cy="474840"/>
            <a:chOff x="5715000" y="2143080"/>
            <a:chExt cx="1213920" cy="474840"/>
          </a:xfrm>
        </p:grpSpPr>
        <p:cxnSp>
          <p:nvCxnSpPr>
            <p:cNvPr id="1505" name="直接箭头连接符 9"/>
            <p:cNvCxnSpPr/>
            <p:nvPr/>
          </p:nvCxnSpPr>
          <p:spPr>
            <a:xfrm flipH="1">
              <a:off x="6428520" y="2213280"/>
              <a:ext cx="500760" cy="2149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506" name="矩形 12"/>
            <p:cNvSpPr/>
            <p:nvPr/>
          </p:nvSpPr>
          <p:spPr>
            <a:xfrm>
              <a:off x="5715000" y="2143080"/>
              <a:ext cx="857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直角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7" name="组合 14"/>
          <p:cNvGrpSpPr/>
          <p:nvPr/>
        </p:nvGrpSpPr>
        <p:grpSpPr>
          <a:xfrm>
            <a:off x="5715000" y="3214800"/>
            <a:ext cx="1213920" cy="474840"/>
            <a:chOff x="5715000" y="3214800"/>
            <a:chExt cx="1213920" cy="474840"/>
          </a:xfrm>
        </p:grpSpPr>
        <p:cxnSp>
          <p:nvCxnSpPr>
            <p:cNvPr id="1508" name="直接箭头连接符 15"/>
            <p:cNvCxnSpPr/>
            <p:nvPr/>
          </p:nvCxnSpPr>
          <p:spPr>
            <a:xfrm flipH="1">
              <a:off x="6428520" y="3285000"/>
              <a:ext cx="500760" cy="2149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509" name="矩形 16"/>
            <p:cNvSpPr/>
            <p:nvPr/>
          </p:nvSpPr>
          <p:spPr>
            <a:xfrm>
              <a:off x="5715000" y="3214800"/>
              <a:ext cx="857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直角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0" name="任意多边形 17"/>
          <p:cNvSpPr/>
          <p:nvPr/>
        </p:nvSpPr>
        <p:spPr>
          <a:xfrm>
            <a:off x="3357720" y="4572000"/>
            <a:ext cx="1643040" cy="1143000"/>
          </a:xfrm>
          <a:custGeom>
            <a:avLst/>
            <a:gdLst/>
            <a:ahLst/>
            <a:rect l="l" t="t" r="r" b="b"/>
            <a:pathLst>
              <a:path w="1643074" h="1143008">
                <a:moveTo>
                  <a:pt x="0" y="0"/>
                </a:moveTo>
                <a:lnTo>
                  <a:pt x="1143008" y="0"/>
                </a:lnTo>
                <a:lnTo>
                  <a:pt x="1643074" y="1143008"/>
                </a:lnTo>
                <a:lnTo>
                  <a:pt x="0" y="1143008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直接连接符 19"/>
          <p:cNvSpPr/>
          <p:nvPr/>
        </p:nvSpPr>
        <p:spPr>
          <a:xfrm>
            <a:off x="4471920" y="457200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2" name="组合 2"/>
          <p:cNvGrpSpPr/>
          <p:nvPr/>
        </p:nvGrpSpPr>
        <p:grpSpPr>
          <a:xfrm>
            <a:off x="-23760" y="46080"/>
            <a:ext cx="2406600" cy="525600"/>
            <a:chOff x="-23760" y="46080"/>
            <a:chExt cx="2406600" cy="525600"/>
          </a:xfrm>
        </p:grpSpPr>
        <p:pic>
          <p:nvPicPr>
            <p:cNvPr id="1513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80640" y="46080"/>
              <a:ext cx="2302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4" name="组合 4"/>
            <p:cNvGrpSpPr/>
            <p:nvPr/>
          </p:nvGrpSpPr>
          <p:grpSpPr>
            <a:xfrm>
              <a:off x="-23760" y="141120"/>
              <a:ext cx="316440" cy="273960"/>
              <a:chOff x="-23760" y="141120"/>
              <a:chExt cx="316440" cy="273960"/>
            </a:xfrm>
          </p:grpSpPr>
          <p:sp>
            <p:nvSpPr>
              <p:cNvPr id="1515" name="椭圆 52"/>
              <p:cNvSpPr/>
              <p:nvPr/>
            </p:nvSpPr>
            <p:spPr>
              <a:xfrm rot="16200000">
                <a:off x="196920" y="288000"/>
                <a:ext cx="82440" cy="10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6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" y="284400"/>
                <a:ext cx="19044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椭圆 58"/>
              <p:cNvSpPr/>
              <p:nvPr/>
            </p:nvSpPr>
            <p:spPr>
              <a:xfrm rot="16200000">
                <a:off x="196920" y="182160"/>
                <a:ext cx="82440" cy="10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8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102240" y="157320"/>
                <a:ext cx="190440" cy="12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9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302760"/>
                <a:ext cx="2484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0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70720"/>
                <a:ext cx="2484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1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72800"/>
                <a:ext cx="2484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2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24840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3" name="组合 2"/>
          <p:cNvGrpSpPr/>
          <p:nvPr/>
        </p:nvGrpSpPr>
        <p:grpSpPr>
          <a:xfrm>
            <a:off x="-23760" y="46080"/>
            <a:ext cx="2235240" cy="525600"/>
            <a:chOff x="-23760" y="46080"/>
            <a:chExt cx="2235240" cy="525600"/>
          </a:xfrm>
        </p:grpSpPr>
        <p:pic>
          <p:nvPicPr>
            <p:cNvPr id="1524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71280" y="46080"/>
              <a:ext cx="2140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5" name="组合 4"/>
            <p:cNvGrpSpPr/>
            <p:nvPr/>
          </p:nvGrpSpPr>
          <p:grpSpPr>
            <a:xfrm>
              <a:off x="-23760" y="141120"/>
              <a:ext cx="293040" cy="273960"/>
              <a:chOff x="-23760" y="141120"/>
              <a:chExt cx="293040" cy="273960"/>
            </a:xfrm>
          </p:grpSpPr>
          <p:sp>
            <p:nvSpPr>
              <p:cNvPr id="1526" name="椭圆 52"/>
              <p:cNvSpPr/>
              <p:nvPr/>
            </p:nvSpPr>
            <p:spPr>
              <a:xfrm rot="16200000">
                <a:off x="180720" y="281160"/>
                <a:ext cx="76680" cy="10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7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20" y="284400"/>
                <a:ext cx="17676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8" name="椭圆 58"/>
              <p:cNvSpPr/>
              <p:nvPr/>
            </p:nvSpPr>
            <p:spPr>
              <a:xfrm rot="16200000">
                <a:off x="180720" y="182880"/>
                <a:ext cx="76680" cy="10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9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79920" y="157320"/>
                <a:ext cx="176760" cy="12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0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302760"/>
                <a:ext cx="21708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1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70720"/>
                <a:ext cx="21708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2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72800"/>
                <a:ext cx="21708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3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21708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4" name="矩形 5"/>
          <p:cNvSpPr/>
          <p:nvPr/>
        </p:nvSpPr>
        <p:spPr>
          <a:xfrm>
            <a:off x="430200" y="849240"/>
            <a:ext cx="7929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以右边的点为顶点，分别画一个锐角、直角和钝角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椭圆 3"/>
          <p:cNvSpPr/>
          <p:nvPr/>
        </p:nvSpPr>
        <p:spPr>
          <a:xfrm>
            <a:off x="1787400" y="255744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椭圆 7"/>
          <p:cNvSpPr/>
          <p:nvPr/>
        </p:nvSpPr>
        <p:spPr>
          <a:xfrm>
            <a:off x="3930480" y="255744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直接连接符 10"/>
          <p:cNvSpPr/>
          <p:nvPr/>
        </p:nvSpPr>
        <p:spPr>
          <a:xfrm flipH="1">
            <a:off x="1835280" y="2073240"/>
            <a:ext cx="582480" cy="511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直接连接符 12"/>
          <p:cNvSpPr/>
          <p:nvPr/>
        </p:nvSpPr>
        <p:spPr>
          <a:xfrm flipH="1">
            <a:off x="1835280" y="2577240"/>
            <a:ext cx="714240" cy="11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直接连接符 15"/>
          <p:cNvSpPr/>
          <p:nvPr/>
        </p:nvSpPr>
        <p:spPr>
          <a:xfrm>
            <a:off x="3930480" y="1914480"/>
            <a:ext cx="0" cy="654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直接连接符 22"/>
          <p:cNvSpPr/>
          <p:nvPr/>
        </p:nvSpPr>
        <p:spPr>
          <a:xfrm flipH="1">
            <a:off x="3965040" y="2593800"/>
            <a:ext cx="7858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椭圆 28"/>
          <p:cNvSpPr/>
          <p:nvPr/>
        </p:nvSpPr>
        <p:spPr>
          <a:xfrm>
            <a:off x="6573960" y="255744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直接连接符 29"/>
          <p:cNvSpPr/>
          <p:nvPr/>
        </p:nvSpPr>
        <p:spPr>
          <a:xfrm>
            <a:off x="6002280" y="1986120"/>
            <a:ext cx="608040" cy="582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直接连接符 30"/>
          <p:cNvSpPr/>
          <p:nvPr/>
        </p:nvSpPr>
        <p:spPr>
          <a:xfrm flipH="1">
            <a:off x="6644880" y="2593800"/>
            <a:ext cx="7858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Picture 2" descr="D:\我的文档-桌面-收藏夹\桌面\1.tif"/>
          <p:cNvPicPr/>
          <p:nvPr/>
        </p:nvPicPr>
        <p:blipFill>
          <a:blip r:embed="rId1"/>
          <a:stretch/>
        </p:blipFill>
        <p:spPr>
          <a:xfrm>
            <a:off x="1000080" y="1224000"/>
            <a:ext cx="5738760" cy="4133880"/>
          </a:xfrm>
          <a:prstGeom prst="rect">
            <a:avLst/>
          </a:prstGeom>
          <a:ln w="0">
            <a:noFill/>
          </a:ln>
        </p:spPr>
      </p:pic>
      <p:sp>
        <p:nvSpPr>
          <p:cNvPr id="1545" name="直接连接符 3"/>
          <p:cNvSpPr/>
          <p:nvPr/>
        </p:nvSpPr>
        <p:spPr>
          <a:xfrm flipV="1">
            <a:off x="4857840" y="1628640"/>
            <a:ext cx="1369800" cy="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直接连接符 6"/>
          <p:cNvSpPr/>
          <p:nvPr/>
        </p:nvSpPr>
        <p:spPr>
          <a:xfrm>
            <a:off x="4857120" y="2643120"/>
            <a:ext cx="1428840" cy="207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直接连接符 7"/>
          <p:cNvSpPr/>
          <p:nvPr/>
        </p:nvSpPr>
        <p:spPr>
          <a:xfrm flipV="1">
            <a:off x="4643280" y="2714400"/>
            <a:ext cx="171468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直接连接符 9"/>
          <p:cNvSpPr/>
          <p:nvPr/>
        </p:nvSpPr>
        <p:spPr>
          <a:xfrm flipV="1">
            <a:off x="4572000" y="3933360"/>
            <a:ext cx="1727280" cy="995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19"/>
          <p:cNvSpPr/>
          <p:nvPr/>
        </p:nvSpPr>
        <p:spPr>
          <a:xfrm>
            <a:off x="642960" y="714240"/>
            <a:ext cx="178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连一连</a:t>
            </a: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0" name="组合 2"/>
          <p:cNvGrpSpPr/>
          <p:nvPr/>
        </p:nvGrpSpPr>
        <p:grpSpPr>
          <a:xfrm>
            <a:off x="-23760" y="46080"/>
            <a:ext cx="2317680" cy="525600"/>
            <a:chOff x="-23760" y="46080"/>
            <a:chExt cx="2317680" cy="525600"/>
          </a:xfrm>
        </p:grpSpPr>
        <p:pic>
          <p:nvPicPr>
            <p:cNvPr id="1551" name="圆角矩形 47" descr=""/>
            <p:cNvPicPr/>
            <p:nvPr/>
          </p:nvPicPr>
          <p:blipFill>
            <a:blip r:embed="rId2"/>
            <a:stretch/>
          </p:blipFill>
          <p:spPr>
            <a:xfrm>
              <a:off x="75600" y="46080"/>
              <a:ext cx="2218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2" name="组合 4"/>
            <p:cNvGrpSpPr/>
            <p:nvPr/>
          </p:nvGrpSpPr>
          <p:grpSpPr>
            <a:xfrm>
              <a:off x="-23760" y="141120"/>
              <a:ext cx="304200" cy="273960"/>
              <a:chOff x="-23760" y="141120"/>
              <a:chExt cx="304200" cy="273960"/>
            </a:xfrm>
          </p:grpSpPr>
          <p:sp>
            <p:nvSpPr>
              <p:cNvPr id="1553" name="椭圆 52"/>
              <p:cNvSpPr/>
              <p:nvPr/>
            </p:nvSpPr>
            <p:spPr>
              <a:xfrm rot="16200000">
                <a:off x="188640" y="284760"/>
                <a:ext cx="79560" cy="10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54" name="椭圆 57" descr=""/>
              <p:cNvPicPr/>
              <p:nvPr/>
            </p:nvPicPr>
            <p:blipFill>
              <a:blip r:embed="rId3"/>
              <a:stretch/>
            </p:blipFill>
            <p:spPr>
              <a:xfrm>
                <a:off x="90360" y="284400"/>
                <a:ext cx="18360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5" name="椭圆 58"/>
              <p:cNvSpPr/>
              <p:nvPr/>
            </p:nvSpPr>
            <p:spPr>
              <a:xfrm rot="16200000">
                <a:off x="188640" y="182520"/>
                <a:ext cx="79560" cy="10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56" name="椭圆 61" descr=""/>
              <p:cNvPicPr/>
              <p:nvPr/>
            </p:nvPicPr>
            <p:blipFill>
              <a:blip r:embed="rId4"/>
              <a:stretch/>
            </p:blipFill>
            <p:spPr>
              <a:xfrm>
                <a:off x="90360" y="157320"/>
                <a:ext cx="183600" cy="12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7" name="圆角矩形 6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302760"/>
                <a:ext cx="2322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8" name="圆角矩形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270720"/>
                <a:ext cx="2322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9" name="圆角矩形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72800"/>
                <a:ext cx="2322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0" name="圆角矩形 70" descr=""/>
              <p:cNvPicPr/>
              <p:nvPr/>
            </p:nvPicPr>
            <p:blipFill>
              <a:blip r:embed="rId8"/>
              <a:stretch/>
            </p:blipFill>
            <p:spPr>
              <a:xfrm>
                <a:off x="-23760" y="141120"/>
                <a:ext cx="23220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1" name="组合 2"/>
          <p:cNvGrpSpPr/>
          <p:nvPr/>
        </p:nvGrpSpPr>
        <p:grpSpPr>
          <a:xfrm>
            <a:off x="-23760" y="46080"/>
            <a:ext cx="2357280" cy="525600"/>
            <a:chOff x="-23760" y="46080"/>
            <a:chExt cx="2357280" cy="525600"/>
          </a:xfrm>
        </p:grpSpPr>
        <p:pic>
          <p:nvPicPr>
            <p:cNvPr id="1562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77760" y="46080"/>
              <a:ext cx="2255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3" name="组合 4"/>
            <p:cNvGrpSpPr/>
            <p:nvPr/>
          </p:nvGrpSpPr>
          <p:grpSpPr>
            <a:xfrm>
              <a:off x="-23760" y="141120"/>
              <a:ext cx="309600" cy="273960"/>
              <a:chOff x="-23760" y="141120"/>
              <a:chExt cx="309600" cy="273960"/>
            </a:xfrm>
          </p:grpSpPr>
          <p:sp>
            <p:nvSpPr>
              <p:cNvPr id="1564" name="椭圆 52"/>
              <p:cNvSpPr/>
              <p:nvPr/>
            </p:nvSpPr>
            <p:spPr>
              <a:xfrm rot="16200000">
                <a:off x="192600" y="286200"/>
                <a:ext cx="81000" cy="105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5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95760" y="284400"/>
                <a:ext cx="18684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椭圆 58"/>
              <p:cNvSpPr/>
              <p:nvPr/>
            </p:nvSpPr>
            <p:spPr>
              <a:xfrm rot="16200000">
                <a:off x="192600" y="182520"/>
                <a:ext cx="81000" cy="105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7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95760" y="157320"/>
                <a:ext cx="186840" cy="12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8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302760"/>
                <a:ext cx="2394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9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70720"/>
                <a:ext cx="2394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0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72800"/>
                <a:ext cx="23940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1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23940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572" name="Picture 3" descr="D:\我的文档-桌面-收藏夹\桌面\Redocn_2012072114532784.jpg"/>
          <p:cNvPicPr/>
          <p:nvPr/>
        </p:nvPicPr>
        <p:blipFill>
          <a:blip r:embed="rId8"/>
          <a:stretch/>
        </p:blipFill>
        <p:spPr>
          <a:xfrm>
            <a:off x="539640" y="2565360"/>
            <a:ext cx="7542360" cy="2635200"/>
          </a:xfrm>
          <a:prstGeom prst="rect">
            <a:avLst/>
          </a:prstGeom>
          <a:ln w="0">
            <a:noFill/>
          </a:ln>
        </p:spPr>
      </p:pic>
      <p:sp>
        <p:nvSpPr>
          <p:cNvPr id="1573" name="直接连接符 9"/>
          <p:cNvSpPr/>
          <p:nvPr/>
        </p:nvSpPr>
        <p:spPr>
          <a:xfrm flipH="1">
            <a:off x="6300720" y="4005360"/>
            <a:ext cx="928800" cy="714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直接连接符 13"/>
          <p:cNvSpPr/>
          <p:nvPr/>
        </p:nvSpPr>
        <p:spPr>
          <a:xfrm flipH="1">
            <a:off x="6227640" y="3068640"/>
            <a:ext cx="1000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直接连接符 15"/>
          <p:cNvSpPr/>
          <p:nvPr/>
        </p:nvSpPr>
        <p:spPr>
          <a:xfrm flipH="1" flipV="1">
            <a:off x="6372360" y="3933360"/>
            <a:ext cx="1000080" cy="785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矩形 19"/>
          <p:cNvSpPr/>
          <p:nvPr/>
        </p:nvSpPr>
        <p:spPr>
          <a:xfrm>
            <a:off x="539640" y="1557360"/>
            <a:ext cx="571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下面场景是谁看到的？连一连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9:14:00Z</dcterms:created>
  <dc:creator/>
  <dc:description/>
  <dc:language>en-US</dc:language>
  <cp:lastModifiedBy>万润仪器贸易公司</cp:lastModifiedBy>
  <dcterms:modified xsi:type="dcterms:W3CDTF">2020-08-21T00:45:50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